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3847-0EB4-413F-A9D0-3B29D50C7B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6B71-40EE-403B-8A1D-32E01BE69B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AF85-CC0D-4334-97D8-16CC8E0649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14A-7BAE-4D2E-B0D8-3F7139E662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4041-BE46-4B64-9566-85F6155CB4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8A00-FEAA-474C-8CA5-7AA42B841D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E1D-2340-466F-89BD-2A7B01A429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FFB7-3896-41B2-87B2-ED5C6BDD3E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12C-1A8F-469F-8F18-3452E073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F78-0BDF-4ED4-8C9E-5F6A844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376-F9E9-4379-AAD2-F029A0D8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886-5743-4D33-9E1E-E9406915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B691-3531-495C-B0DD-C65B705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8ED0-12A5-422C-B5FD-612537B9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5DE0-031E-4413-A6FE-EBDBA8F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2728-51AA-4E5E-B3F4-DFFB5C20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3D43-68BC-422D-A35B-1CEF99F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BB02-0E6B-420B-9E8C-F0CDB30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3026-77F8-4523-B27B-CD62023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C70-E2FE-49E5-AA48-80B024D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720-55D3-4FB2-8D5B-82E02A4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DD00-70AB-416E-8520-4C89691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7D9D-FC58-465B-95F0-9C92EE3C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C43C-CB0C-479F-AABC-C3CE6972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686E-FF08-4B10-9C24-4C27DE36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A23-71F5-4991-B59E-E6D1879C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8A7-E9B6-4139-A94F-5A5682DF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DE6-BE9D-44A5-85CA-BD153F0E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8F9-CDBC-4B43-B3A4-B6DB7BE5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4B1-BF8B-4695-BDD2-4B3E904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39D-AFEA-44DF-9EAE-A74CCC1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C06-F9EB-4275-AB13-1A69DCB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5EE-D326-4FD4-BFEB-9BCB2025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2D14-EB67-4C4B-A250-6A399F72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erbes s en 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es réguliers et irrégul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– Rond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 – vous / pro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– je / sou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 – il / détr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 – tu / per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5 – nous / pro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 – ils /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– Rond 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 – vous / constr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– je / per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 – il / sou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 – tu / con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5 – nous / répo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 – ils /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-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end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so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scend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ndre visite 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RE irréguliers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mett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so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irréguliers –R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condui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rui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Les verbes irréguliers  –R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verbes comm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ire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ou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ettez-vous en groupe de 3 ou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ormez vos group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enez un tableau par grou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rtagez-vous les car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intenant, je vais jouer de la mus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ndant que je joue la musique, vous devez passer la carte que vous avez à la personne à dro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and j’arrête la musique, je vais annoncer un numé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personne avec cette carte doit écrire la conjugaison sur le tablea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groupe avec la réponse correcte, gagne un 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ous avez compr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lons-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ratiquons! – Rond 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1 – nous / ve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– tu / con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3 – ils / r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4 – on / met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5 – vous / trad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6 – je /attend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2-06T22:04:08Z</dcterms:modified>
  <cp:revision>90</cp:revision>
  <dc:subject/>
  <dc:title>Allez, viens! – Level 2</dc:title>
</cp:coreProperties>
</file>